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6.png" ContentType="image/png"/>
  <Override PartName="/ppt/media/image25.jpeg" ContentType="image/jpeg"/>
  <Override PartName="/ppt/media/image2.png" ContentType="image/png"/>
  <Override PartName="/ppt/media/image10.wmf" ContentType="image/x-wmf"/>
  <Override PartName="/ppt/media/image1.jpeg" ContentType="image/jpeg"/>
  <Override PartName="/ppt/media/image35.jpeg" ContentType="image/jpeg"/>
  <Override PartName="/ppt/media/image7.png" ContentType="image/png"/>
  <Override PartName="/ppt/media/image31.png" ContentType="image/png"/>
  <Override PartName="/ppt/media/image36.jpeg" ContentType="image/jpeg"/>
  <Override PartName="/ppt/media/image40.png" ContentType="image/png"/>
  <Override PartName="/ppt/media/image38.jpeg" ContentType="image/jpeg"/>
  <Override PartName="/ppt/media/image9.png" ContentType="image/png"/>
  <Override PartName="/ppt/media/image37.jpeg" ContentType="image/jpeg"/>
  <Override PartName="/ppt/media/image48.png" ContentType="image/png"/>
  <Override PartName="/ppt/media/image42.png" ContentType="image/png"/>
  <Override PartName="/ppt/media/image44.jpeg" ContentType="image/jpeg"/>
  <Override PartName="/ppt/media/image45.png" ContentType="image/png"/>
  <Override PartName="/ppt/media/image46.jpeg" ContentType="image/jpeg"/>
  <Override PartName="/ppt/media/image30.jpeg" ContentType="image/jpeg"/>
  <Override PartName="/ppt/media/image47.jpeg" ContentType="image/jpeg"/>
  <Override PartName="/ppt/media/image49.wmf" ContentType="image/x-wmf"/>
  <Override PartName="/ppt/media/image12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13.wmf" ContentType="image/x-wmf"/>
  <Override PartName="/ppt/media/image29.jpeg" ContentType="image/jpeg"/>
  <Override PartName="/ppt/media/image8.jpeg" ContentType="image/jpeg"/>
  <Override PartName="/ppt/media/image41.wmf" ContentType="image/x-wmf"/>
  <Override PartName="/ppt/media/image39.jpeg" ContentType="image/jpeg"/>
  <Override PartName="/ppt/media/image5.png" ContentType="image/png"/>
  <Override PartName="/ppt/media/image43.jpeg" ContentType="image/jpeg"/>
  <Override PartName="/ppt/media/image11.wmf" ContentType="image/x-wmf"/>
  <Override PartName="/ppt/media/image26.png" ContentType="image/png"/>
  <Override PartName="/ppt/media/image3.png" ContentType="image/png"/>
  <Override PartName="/ppt/media/image3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5869-6B7B-4A11-9CBE-CBD09AE4D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5272-0DFB-46B9-916B-A3CDC735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8E5C-18EC-45B0-BED6-3E610A0F9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3316-E644-4C3E-891E-726EEBA08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46C3-88E1-4381-9E2C-83E46EC20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6FB4-5274-42CD-B1FA-134F5B76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2384-B310-40B2-AE64-D1E6CC27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E6AD-6EC6-4D0D-A178-56F81B11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B3D2-4B42-4A91-85AA-0E107B63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A556-589C-4241-9EB0-E1C50AF9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50296-75B1-45A8-8536-2E7E3FF8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1510-84E3-418C-BC5F-A0F9A790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7E333-054D-44AE-B117-F3693D1A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12F7-0C04-4C14-8F25-0777E597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5387-2FFB-43FB-8508-E4AAA964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5358-B794-451F-AD2F-FC113C922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A8A1-03CB-4FB9-BD90-72D3A90E7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CE565-293B-4C01-8BD0-30EC7E158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D92ED-3C81-4BF9-ADF0-F72904A6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2D813-B3A4-41A9-BCD8-01802ADB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20C57-2CAD-4AB4-BDE9-A70B3F7F5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22E43-49F7-446C-8362-01C16271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247B-2092-478C-983C-25AF1002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E653F-9DC2-4354-939A-16CA2769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04747-E528-4EB6-80B6-6B12C16B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8D419-A934-4379-A39B-AA87CE4C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30B24-38A0-45CA-AE57-87CA17CC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E4545-0D1F-43AD-A03B-B0894A20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7AC1D-9830-4776-B485-8C8C9155B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B96BC-E3EB-410A-8C95-A61C8C964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73FA6-009A-4048-911D-741F04CE6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A0DBB-80CD-4ED5-A05C-E1F8A170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AEE7F-A21D-4105-B933-42C1D62D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B124-649C-44DE-B5E9-28C3F78C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90950-D264-48A3-8A9A-4F0662A2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16DC6-FD77-4166-85D2-52DCE2F7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78AEA-271D-4F44-9FEA-DE684AB9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65D35-7D86-4F4C-BEE6-30D8A10B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29481-D5E5-45D7-9BF6-646ECEF5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B14A2-ED40-41D6-A14B-BC14FDF0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EA5CA-96A3-4C37-951F-FC7F7BD7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545D3-04CD-424A-8EDB-A896C441F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7090F-7540-4FE6-8CB7-3E5279847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EEA93-C060-4AA9-A582-0B2D09CC8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C49B-AB19-4D0B-84B2-59E975FB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1EB7E-9BB1-44C2-9097-490084CA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93261-629F-421E-975A-42687DB0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D5358-6C89-441A-96C8-2D04FAD9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7AD65-7BF6-4EBF-A699-D93A7827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E2AC1-BB23-4BB6-B77C-BE76083E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F4348-E831-48A5-B1CE-F7B6EB97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5466E-C53D-4A4B-9A62-9183B046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D3582-75C5-4F12-ABF6-A93215A5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A1AFB-1490-4FAF-BB9F-18049B8B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E4BEE-BD9A-4343-BC89-2199C39F0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3E73-3B84-4A5E-89EE-06F843E7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83179-F3AD-4EA8-ABC6-9894EF6D8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3298-59BF-4514-9224-54A571BF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F6D9-1708-44A1-8643-8B05A3CF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B5C5-9D29-41EF-9D11-5C815F6D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E010-647F-446A-8557-CC837BDEDDD0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5" name="Rectangle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8" name="Rectangle 7" descr=""/>
            <p:cNvPicPr/>
            <p:nvPr/>
          </p:nvPicPr>
          <p:blipFill>
            <a:blip r:embed="rId4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9161-EFCE-4EF1-B962-6537F242EBD2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3" name="Rectangle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AF13-4A55-4B58-AA06-2384C345AC83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7" name="Rectangle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C681-C13F-441D-89DC-1307D1042073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83" name="Rectangle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07E0-F1B8-4C26-9B71-3B051E2DD945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1" descr=""/>
          <p:cNvPicPr/>
          <p:nvPr/>
        </p:nvPicPr>
        <p:blipFill>
          <a:blip r:embed="rId1"/>
          <a:stretch/>
        </p:blipFill>
        <p:spPr>
          <a:xfrm>
            <a:off x="530280" y="298440"/>
            <a:ext cx="8211960" cy="20732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762120" y="2514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By Nathalie and Alexis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6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Title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7255080" cy="11700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uhaus 93"/>
              </a:rPr>
              <a:t>Very few plants can tolerate the extreme cold of Antarctica. To start, some of their heights are 150in. Secondly, they live in 2% of the ice free area. Finally, they are all colorful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75" name="MS900441635[1].wav" descr=""/>
          <p:cNvPicPr/>
          <p:nvPr/>
        </p:nvPicPr>
        <p:blipFill>
          <a:blip r:embed="rId2"/>
          <a:stretch/>
        </p:blipFill>
        <p:spPr>
          <a:xfrm>
            <a:off x="6095880" y="3962520"/>
            <a:ext cx="10670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6200" fill="hold"/>
                                        <p:tgtEl>
                                          <p:spTgt spid="2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d6df"/>
            </a:gs>
            <a:gs pos="100000">
              <a:srgbClr val="f5e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uhaus 93"/>
              </a:rPr>
              <a:t>The lichen is a green tall plant. To start, there’s 350 species of  them. Secondly, there is more of them  found in  Antarctica . Finally, they can grow up to two feet tall 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78" name="Picture 2" descr="C:\Documents and Settings\2056211\Local Settings\Temporary Internet Files\Content.IE5\W2IDXE9K\MP900402708[1].jpg"/>
          <p:cNvPicPr/>
          <p:nvPr/>
        </p:nvPicPr>
        <p:blipFill>
          <a:blip r:embed="rId2"/>
          <a:stretch/>
        </p:blipFill>
        <p:spPr>
          <a:xfrm>
            <a:off x="4876920" y="1600200"/>
            <a:ext cx="2495520" cy="31212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C:\Documents and Settings\2056211\Local Settings\Temporary Internet Files\Content.IE5\3Z44CHM7\MP900201944[1].jpg"/>
          <p:cNvPicPr/>
          <p:nvPr/>
        </p:nvPicPr>
        <p:blipFill>
          <a:blip r:embed="rId3"/>
          <a:stretch/>
        </p:blipFill>
        <p:spPr>
          <a:xfrm>
            <a:off x="3365640" y="1600200"/>
            <a:ext cx="63360" cy="968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C:\Documents and Settings\2056211\Local Settings\Temporary Internet Files\Content.IE5\3Z44CHM7\MP900201944[1].jpg"/>
          <p:cNvPicPr/>
          <p:nvPr/>
        </p:nvPicPr>
        <p:blipFill>
          <a:blip r:embed="rId4"/>
          <a:stretch/>
        </p:blipFill>
        <p:spPr>
          <a:xfrm>
            <a:off x="5029200" y="3429000"/>
            <a:ext cx="50760" cy="763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" descr="C:\Documents and Settings\2056211\Local Settings\Temporary Internet Files\Content.IE5\3Z44CHM7\MP900201944[1].jpg"/>
          <p:cNvPicPr/>
          <p:nvPr/>
        </p:nvPicPr>
        <p:blipFill>
          <a:blip r:embed="rId5"/>
          <a:stretch/>
        </p:blipFill>
        <p:spPr>
          <a:xfrm>
            <a:off x="3657600" y="3200400"/>
            <a:ext cx="50760" cy="763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C:\Documents and Settings\2056211\Local Settings\Temporary Internet Files\Content.IE5\3Z44CHM7\MP900201944[1].jpg"/>
          <p:cNvPicPr/>
          <p:nvPr/>
        </p:nvPicPr>
        <p:blipFill>
          <a:blip r:embed="rId6"/>
          <a:stretch/>
        </p:blipFill>
        <p:spPr>
          <a:xfrm>
            <a:off x="5486400" y="2325600"/>
            <a:ext cx="76320" cy="1144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C:\Documents and Settings\2056211\Local Settings\Temporary Internet Files\Content.IE5\3Z44CHM7\MP900201944[1].jpg"/>
          <p:cNvPicPr/>
          <p:nvPr/>
        </p:nvPicPr>
        <p:blipFill>
          <a:blip r:embed="rId7"/>
          <a:stretch/>
        </p:blipFill>
        <p:spPr>
          <a:xfrm>
            <a:off x="7334280" y="4114800"/>
            <a:ext cx="18097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cd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lgae are  blue and green. To start, there are 300 species . Secondly, they are different kinds of forms. Finally, they are from Antarctica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lga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87" name="Picture 3" descr="C:\Documents and Settings\2056211\Local Settings\Temporary Internet Files\Content.IE5\U5NB2WIW\MC900057631[1].wmf"/>
          <p:cNvPicPr/>
          <p:nvPr/>
        </p:nvPicPr>
        <p:blipFill>
          <a:blip r:embed="rId2"/>
          <a:stretch/>
        </p:blipFill>
        <p:spPr>
          <a:xfrm>
            <a:off x="4221000" y="2438280"/>
            <a:ext cx="4923000" cy="38862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c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uhaus 93"/>
              </a:rPr>
              <a:t>It covers 1% of all the land in Antarctica. To start , there is 2 species of it. Secondly, it is not tall it’s height is 1in . finally ,  it grows in the south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1640" y="121932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91" name="Picture 2" descr="C:\Documents and Settings\2056211\Local Settings\Temporary Internet Files\Content.IE5\W2IDXE9K\MP900402207[1].jpg"/>
          <p:cNvPicPr/>
          <p:nvPr/>
        </p:nvPicPr>
        <p:blipFill>
          <a:blip r:embed="rId2"/>
          <a:stretch/>
        </p:blipFill>
        <p:spPr>
          <a:xfrm>
            <a:off x="5613480" y="1868400"/>
            <a:ext cx="44280" cy="684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" descr="C:\Documents and Settings\2056211\Local Settings\Temporary Internet Files\Content.IE5\W2IDXE9K\MP900402207[1].jpg"/>
          <p:cNvPicPr/>
          <p:nvPr/>
        </p:nvPicPr>
        <p:blipFill>
          <a:blip r:embed="rId3"/>
          <a:stretch/>
        </p:blipFill>
        <p:spPr>
          <a:xfrm>
            <a:off x="4495680" y="1143000"/>
            <a:ext cx="411480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2f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oss grows near the ocean .  to star ,they are as much as 6 and one half feet deep . Secondly , it  can get old as 5,000 years .  Finally, most grow in Antarctica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5" name=""/>
          <p:cNvSpPr txBox="1"/>
          <p:nvPr/>
        </p:nvSpPr>
        <p:spPr>
          <a:xfrm rot="10800000">
            <a:off x="4610160" y="1676520"/>
            <a:ext cx="46080" cy="9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96" name="Picture 3" descr="C:\Documents and Settings\2056211\Local Settings\Temporary Internet Files\Content.IE5\9OX8KLQ3\MP900447904[1].jpg"/>
          <p:cNvPicPr/>
          <p:nvPr/>
        </p:nvPicPr>
        <p:blipFill>
          <a:blip r:embed="rId2"/>
          <a:stretch/>
        </p:blipFill>
        <p:spPr>
          <a:xfrm>
            <a:off x="507960" y="658800"/>
            <a:ext cx="68400" cy="460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5" descr="C:\Documents and Settings\2056211\Local Settings\Temporary Internet Files\Content.IE5\3Z44CHM7\MP900448014[1].jpg"/>
          <p:cNvPicPr/>
          <p:nvPr/>
        </p:nvPicPr>
        <p:blipFill>
          <a:blip r:embed="rId3"/>
          <a:stretch/>
        </p:blipFill>
        <p:spPr>
          <a:xfrm>
            <a:off x="5334120" y="1905120"/>
            <a:ext cx="2948040" cy="4419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"/>
          <p:cNvPicPr/>
          <p:nvPr/>
        </p:nvPicPr>
        <p:blipFill>
          <a:blip r:embed="rId2"/>
          <a:stretch/>
        </p:blipFill>
        <p:spPr>
          <a:xfrm>
            <a:off x="304920" y="533520"/>
            <a:ext cx="8839080" cy="6027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b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761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Blue whale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41112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Adeline penguin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41112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hinstrap penguin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41112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al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41112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sh 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41112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Kelp gull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41112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Lichen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41112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Gras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41112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Mos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41112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od Web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30" name="MS900074766[1].wav" descr=""/>
          <p:cNvPicPr/>
          <p:nvPr/>
        </p:nvPicPr>
        <p:blipFill>
          <a:blip r:embed="rId2"/>
          <a:stretch/>
        </p:blipFill>
        <p:spPr>
          <a:xfrm>
            <a:off x="6400800" y="54100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239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j0214098.wav" descr=""/>
          <p:cNvPicPr/>
          <p:nvPr/>
        </p:nvPicPr>
        <p:blipFill>
          <a:blip r:embed="rId1"/>
          <a:stretch/>
        </p:blipFill>
        <p:spPr>
          <a:xfrm>
            <a:off x="10363320" y="63244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232" name="Title 1" descr=""/>
          <p:cNvPicPr/>
          <p:nvPr/>
        </p:nvPicPr>
        <p:blipFill>
          <a:blip r:embed="rId2"/>
          <a:stretch/>
        </p:blipFill>
        <p:spPr>
          <a:xfrm>
            <a:off x="-19080" y="109440"/>
            <a:ext cx="8486640" cy="7383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533520" y="1905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94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uhaus 93"/>
              </a:rPr>
              <a:t>Antarctica is a cold place but it is home to many animals and plants . Initially</a:t>
            </a: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 , </a:t>
            </a:r>
            <a:r>
              <a:rPr b="0" lang="en-US" sz="2600" spc="-1" strike="noStrike">
                <a:solidFill>
                  <a:srgbClr val="ffffff"/>
                </a:solidFill>
                <a:latin typeface="Bauhaus 93"/>
              </a:rPr>
              <a:t>it is 14 times bigger  than the USA. It is 5,339,543 miles  In addition, the ice free area is 32% of all the land . It has volcanic  eruptions  under water . Last but not least , it is surrounded by 3 other oceans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Antarctica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35" name="Picture 6" descr="http://mstecker.com/images/antarctica/antarcticaHP/I39IB1.JPG"/>
          <p:cNvPicPr/>
          <p:nvPr/>
        </p:nvPicPr>
        <p:blipFill>
          <a:blip r:embed="rId3"/>
          <a:stretch/>
        </p:blipFill>
        <p:spPr>
          <a:xfrm>
            <a:off x="4800600" y="2209680"/>
            <a:ext cx="3886200" cy="2587680"/>
          </a:xfrm>
          <a:prstGeom prst="rect">
            <a:avLst/>
          </a:prstGeom>
          <a:ln w="0">
            <a:noFill/>
          </a:ln>
        </p:spPr>
      </p:pic>
      <p:pic>
        <p:nvPicPr>
          <p:cNvPr id="236" name="MS910219879[1].wav" descr=""/>
          <p:cNvPicPr/>
          <p:nvPr/>
        </p:nvPicPr>
        <p:blipFill>
          <a:blip r:embed="rId4"/>
          <a:stretch/>
        </p:blipFill>
        <p:spPr>
          <a:xfrm>
            <a:off x="6095880" y="57150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745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745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21049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43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380520" y="16765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uhaus 93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Bauhaus 93"/>
              </a:rPr>
              <a:t>The blue whale is the  largest animal ever known on earth. It is 3 times bigger than a dinosaur . To start ,  the population is 11,000 .secondly , the size of the whale is 85 to 100 ft long. The blue whale weighs</a:t>
            </a:r>
            <a:r>
              <a:rPr b="0" lang="en-US" sz="2400" spc="-1" strike="noStrike">
                <a:solidFill>
                  <a:srgbClr val="ffffff"/>
                </a:solidFill>
                <a:latin typeface="Bauhaus 93"/>
              </a:rPr>
              <a:t>  85 to 150 tons. Yet another, it’s diet is krill and other  crustaceans. Finally , they have 1 to 3 babies but only 1 survives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73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Blue whal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40" name="Picture 5" descr="C:\Documents and Settings\2056211\Local Settings\Temporary Internet Files\Content.IE5\TNLJY5BO\MC900057221[1].wmf"/>
          <p:cNvPicPr/>
          <p:nvPr/>
        </p:nvPicPr>
        <p:blipFill>
          <a:blip r:embed="rId2"/>
          <a:stretch/>
        </p:blipFill>
        <p:spPr>
          <a:xfrm flipH="1">
            <a:off x="3576240" y="2438280"/>
            <a:ext cx="157320" cy="763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C:\Documents and Settings\2056211\Local Settings\Temporary Internet Files\Content.IE5\I63YDXU0\MC900000941[1].wmf"/>
          <p:cNvPicPr/>
          <p:nvPr/>
        </p:nvPicPr>
        <p:blipFill>
          <a:blip r:embed="rId3"/>
          <a:stretch/>
        </p:blipFill>
        <p:spPr>
          <a:xfrm flipH="1">
            <a:off x="5410080" y="2895480"/>
            <a:ext cx="76320" cy="604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7" descr="C:\Documents and Settings\2056211\Local Settings\Temporary Internet Files\Content.IE5\I1C4T0S3\MC900014767[1].wmf"/>
          <p:cNvPicPr/>
          <p:nvPr/>
        </p:nvPicPr>
        <p:blipFill>
          <a:blip r:embed="rId4"/>
          <a:stretch/>
        </p:blipFill>
        <p:spPr>
          <a:xfrm>
            <a:off x="4800600" y="3124080"/>
            <a:ext cx="128520" cy="763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C:\Documents and Settings\2056211\Local Settings\Temporary Internet Files\Content.IE5\GBDQ31KK\MC900370862[1].wmf"/>
          <p:cNvPicPr/>
          <p:nvPr/>
        </p:nvPicPr>
        <p:blipFill>
          <a:blip r:embed="rId5"/>
          <a:stretch/>
        </p:blipFill>
        <p:spPr>
          <a:xfrm>
            <a:off x="4419720" y="2133720"/>
            <a:ext cx="42274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3b7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auhaus 93"/>
              </a:rPr>
              <a:t>Adeline penguins are black and white . To start , the population of  Adeline  penguins is 2.5 millions. secondly , the Adeline penguins can grow up to 70cm to 27in .Yet another fact, it can weigh 5 to 11 pounds . They also ,eat fish and shrimp . Last but not least, this penguins take care of their own babies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46" name="Picture 5" descr="C:\Documents and Settings\2056211\Local Settings\Temporary Internet Files\Content.IE5\GBDQ31KK\MP900443910[1].jpg"/>
          <p:cNvPicPr/>
          <p:nvPr/>
        </p:nvPicPr>
        <p:blipFill>
          <a:blip r:embed="rId2"/>
          <a:stretch/>
        </p:blipFill>
        <p:spPr>
          <a:xfrm>
            <a:off x="5791320" y="1143000"/>
            <a:ext cx="2743200" cy="18255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C:\Documents and Settings\2056211\Local Settings\Temporary Internet Files\Content.IE5\I63YDXU0\MP900431210[1].jpg"/>
          <p:cNvPicPr/>
          <p:nvPr/>
        </p:nvPicPr>
        <p:blipFill>
          <a:blip r:embed="rId3"/>
          <a:stretch/>
        </p:blipFill>
        <p:spPr>
          <a:xfrm>
            <a:off x="5410080" y="3048120"/>
            <a:ext cx="2260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uhaus 93"/>
              </a:rPr>
              <a:t>There is 13 million chinstrap penguins in all the world. To start, there breeding season is in december - march . Secondly, The penguin can grow up to 68cm to 27in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50" name="Picture 13" descr="http://t0.gstatic.com/images?q=tbn:ANd9GcQzwv0-B4a3QudkSe3tPZNqSgmJSxZxdWs_v3WoaRHb1BXHUu8Qzg&amp;t=1"/>
          <p:cNvPicPr/>
          <p:nvPr/>
        </p:nvPicPr>
        <p:blipFill>
          <a:blip r:embed="rId2"/>
          <a:stretch/>
        </p:blipFill>
        <p:spPr>
          <a:xfrm>
            <a:off x="5486400" y="0"/>
            <a:ext cx="46080" cy="633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C:\Documents and Settings\2056211\Local Settings\Temporary Internet Files\Content.IE5\TNLJY5BO\MP900399650[1].jpg"/>
          <p:cNvPicPr/>
          <p:nvPr/>
        </p:nvPicPr>
        <p:blipFill>
          <a:blip r:embed="rId3"/>
          <a:stretch/>
        </p:blipFill>
        <p:spPr>
          <a:xfrm>
            <a:off x="6553080" y="2133720"/>
            <a:ext cx="76320" cy="1141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C:\Documents and Settings\2056211\Local Settings\Temporary Internet Files\Content.IE5\TNLJY5BO\MP900399650[1].jpg"/>
          <p:cNvPicPr/>
          <p:nvPr/>
        </p:nvPicPr>
        <p:blipFill>
          <a:blip r:embed="rId4"/>
          <a:stretch/>
        </p:blipFill>
        <p:spPr>
          <a:xfrm>
            <a:off x="5562720" y="2027160"/>
            <a:ext cx="46080" cy="684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http://t0.gstatic.com/images?q=tbn:ANd9GcQzwv0-B4a3QudkSe3tPZNqSgmJSxZxdWs_v3WoaRHb1BXHUu8Qzg&amp;t=1"/>
          <p:cNvPicPr/>
          <p:nvPr/>
        </p:nvPicPr>
        <p:blipFill>
          <a:blip r:embed="rId5"/>
          <a:stretch/>
        </p:blipFill>
        <p:spPr>
          <a:xfrm>
            <a:off x="5867280" y="1981080"/>
            <a:ext cx="3102120" cy="4343400"/>
          </a:xfrm>
          <a:prstGeom prst="rect">
            <a:avLst/>
          </a:prstGeom>
          <a:ln w="0">
            <a:noFill/>
          </a:ln>
        </p:spPr>
      </p:pic>
      <p:pic>
        <p:nvPicPr>
          <p:cNvPr id="254" name="MS910219050[1].wav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216867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8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auhaus 93"/>
              </a:rPr>
              <a:t>IN Antarctica there are 33 species of seals. To start, seals can weigh up to 250 pounds .  another fact is that they can grow up to 20ft. They come up the water every 2 minutes to breath. Lastly, the number of seals that had desapear is 80% of 200 .the diet of the seals is fish and squid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57" name="Picture 5" descr="C:\Documents and Settings\2056211\Local Settings\Temporary Internet Files\Content.IE5\I63YDXU0\MP900399281[1].jpg"/>
          <p:cNvPicPr/>
          <p:nvPr/>
        </p:nvPicPr>
        <p:blipFill>
          <a:blip r:embed="rId2"/>
          <a:stretch/>
        </p:blipFill>
        <p:spPr>
          <a:xfrm>
            <a:off x="-4191120" y="7391520"/>
            <a:ext cx="21412440" cy="142700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C:\Documents and Settings\2056211\Local Settings\Temporary Internet Files\Content.IE5\I1C4T0S3\MP900401276[1].jpg"/>
          <p:cNvPicPr/>
          <p:nvPr/>
        </p:nvPicPr>
        <p:blipFill>
          <a:blip r:embed="rId3"/>
          <a:stretch/>
        </p:blipFill>
        <p:spPr>
          <a:xfrm>
            <a:off x="5029200" y="762120"/>
            <a:ext cx="3902040" cy="2600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C:\Documents and Settings\2056211\Local Settings\Temporary Internet Files\Content.IE5\GBDQ31KK\MP900406911[1].jpg"/>
          <p:cNvPicPr/>
          <p:nvPr/>
        </p:nvPicPr>
        <p:blipFill>
          <a:blip r:embed="rId4"/>
          <a:stretch/>
        </p:blipFill>
        <p:spPr>
          <a:xfrm>
            <a:off x="5638680" y="3736800"/>
            <a:ext cx="1471680" cy="22068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1144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261" name="Object 8"/>
          <p:cNvGraphicFramePr/>
          <p:nvPr/>
        </p:nvGraphicFramePr>
        <p:xfrm>
          <a:off x="7238880" y="5257800"/>
          <a:ext cx="609840" cy="81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38880" y="5257800"/>
                    <a:ext cx="60984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1a1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uhaus 93"/>
              </a:rPr>
              <a:t>There are many types of fish in Antarctica. To begin , they migrate in almost all the oceans .secondly . fish are 18 to 34in.yet another, fish weigh 10 to 11 pounds. Last but not least , most  fish lay 5.000 to 5,000.000 eggs. Their  diet is krill and  plants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65" name="Picture 5" descr="C:\Documents and Settings\2056211\Local Settings\Temporary Internet Files\Content.IE5\TNLJY5BO\MP900438972[1].jpg"/>
          <p:cNvPicPr/>
          <p:nvPr/>
        </p:nvPicPr>
        <p:blipFill>
          <a:blip r:embed="rId2"/>
          <a:stretch/>
        </p:blipFill>
        <p:spPr>
          <a:xfrm>
            <a:off x="4595760" y="2471760"/>
            <a:ext cx="60480" cy="460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http://blogs.laweekly.com/stylecouncil/2010/05/27/ariel-fish-friends.jpg"/>
          <p:cNvPicPr/>
          <p:nvPr/>
        </p:nvPicPr>
        <p:blipFill>
          <a:blip r:embed="rId3"/>
          <a:stretch/>
        </p:blipFill>
        <p:spPr>
          <a:xfrm>
            <a:off x="5181480" y="609480"/>
            <a:ext cx="76320" cy="460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9" descr="http://www.supercoloring.com/wp-content/thumbnail/2008_11/small-fish-coloring-page.jpg"/>
          <p:cNvPicPr/>
          <p:nvPr/>
        </p:nvPicPr>
        <p:blipFill>
          <a:blip r:embed="rId4"/>
          <a:stretch/>
        </p:blipFill>
        <p:spPr>
          <a:xfrm>
            <a:off x="4724280" y="1447920"/>
            <a:ext cx="3962520" cy="3429000"/>
          </a:xfrm>
          <a:prstGeom prst="rect">
            <a:avLst/>
          </a:prstGeom>
          <a:ln w="0">
            <a:noFill/>
          </a:ln>
        </p:spPr>
      </p:pic>
      <p:pic>
        <p:nvPicPr>
          <p:cNvPr id="268" name="MS900441656[1].wav" descr=""/>
          <p:cNvPicPr/>
          <p:nvPr/>
        </p:nvPicPr>
        <p:blipFill>
          <a:blip r:embed="rId5"/>
          <a:stretch/>
        </p:blipFill>
        <p:spPr>
          <a:xfrm>
            <a:off x="5943600" y="51814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3450" fill="hold"/>
                                        <p:tgtEl>
                                          <p:spTgt spid="2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d3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914400" y="160020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uhaus 93"/>
              </a:rPr>
              <a:t>Kelp gulls are flying creatures that live in the cold Antarctica. To start, the population is a several hundred thousand . Secondly its height is 3 to 4 feet . Yet another , it  weighs  2 to 3 pounds. Last but not least , its diet is dead  fish and  shellfish . Finally, its wings   span 3 to 4 feet when it flies.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71" name="Picture 5" descr="http://t2.gstatic.com/images?q=tbn:ANd9GcQCiOvMNetE2MDMoGG-89G11EYDsJELoL0Xq88Ljw5lSS2pOr1H"/>
          <p:cNvPicPr/>
          <p:nvPr/>
        </p:nvPicPr>
        <p:blipFill>
          <a:blip r:embed="rId2"/>
          <a:stretch/>
        </p:blipFill>
        <p:spPr>
          <a:xfrm>
            <a:off x="5257800" y="2438280"/>
            <a:ext cx="3459240" cy="2590920"/>
          </a:xfrm>
          <a:prstGeom prst="rect">
            <a:avLst/>
          </a:prstGeom>
          <a:ln w="0">
            <a:noFill/>
          </a:ln>
        </p:spPr>
      </p:pic>
      <p:pic>
        <p:nvPicPr>
          <p:cNvPr id="272" name="MS900388290[1].wav" descr=""/>
          <p:cNvPicPr/>
          <p:nvPr/>
        </p:nvPicPr>
        <p:blipFill>
          <a:blip r:embed="rId3"/>
          <a:stretch/>
        </p:blipFill>
        <p:spPr>
          <a:xfrm>
            <a:off x="5257800" y="5410080"/>
            <a:ext cx="838080" cy="8384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33342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15:41:38Z</dcterms:created>
  <dc:creator>user</dc:creator>
  <dc:description/>
  <dc:language>en-US</dc:language>
  <cp:lastModifiedBy>user</cp:lastModifiedBy>
  <dcterms:modified xsi:type="dcterms:W3CDTF">2011-03-24T21:11:26Z</dcterms:modified>
  <cp:revision>50</cp:revision>
  <dc:subject/>
  <dc:title>Title</dc:title>
</cp:coreProperties>
</file>